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8FA-EAF2-4186-9B64-354E3B12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B3D-70ED-4EBB-8BF1-5E06777A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535-2D88-42A4-900E-D1DE681C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54B-377F-4992-9245-9E9EDC4F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10E-DE67-4E90-8272-17D79D5D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46F2-A217-427F-94B2-A8D3CC73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DA10-7F4C-4B47-AECA-D8B6BFD3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1F4A-4C83-47FE-A8F6-23BE03F4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95E3-10C0-477B-B103-2A5F7356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ECFA-1F10-4464-877F-84F0191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8C14-FC2D-4D0F-903A-51B3B49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961-1510-45BF-A9EE-75DB8441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A83A-69A0-428D-A52C-82A53DE8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8765-1AD0-46A1-86B8-956B14F5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3DDD-B9E7-472C-AFB1-3CD0E1FE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513F-6A28-4EAF-A2E2-6E14E018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DFEB-DFB8-4DCC-9C44-F0DCFA8A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113D-23F2-4FF8-9BAC-666922FA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A7F8-B56D-4AD7-8005-3B4A7C1C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A631-273C-4541-8658-ECEA1C10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4338-D977-4E2A-A176-51DD0513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3C76-586C-4B5C-929C-5AB56034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DAB-556B-4689-B85A-8A2E774C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471D-AABF-48B2-AFC6-E0933ED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0B0E-341B-4F48-B5B1-93BC334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FEFC-DB61-4BFF-A6CD-ACC786E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68E2-15B2-4B0A-887E-601461C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9DDF-5D24-4201-BBF8-05050959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8253-C1F3-41BE-AF98-90917E8D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2B35-FB2C-4A57-A0BC-D5FFCFC0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4E58-CF09-4B56-B300-F7A026D7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7E4C-98C3-4843-B2AB-27005A4B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C464-5F23-48B0-AFF0-93B92CA3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70E-87E3-420D-AAB6-262BDAC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F14A-783B-4E23-A1D9-B1C1597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7EE7-AF24-48D6-97B6-426B30B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A10C-9545-4E72-838C-3909D868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D83F-C27F-4FBF-BE48-51C8819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6008-DCDC-41BE-8FB4-09E23C5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A779-3990-4FD8-BF82-EF05E31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6C7A-F67F-4E9E-9DE2-4026EEAF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54F8-DC99-4A87-BE4D-646B02C7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A376-FE1D-4262-856A-4C1609EC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7714-87B9-41D0-A8F7-C42BFAE3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E11-E18F-4828-86C7-6F557E1A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B49B-E47E-4721-BA2E-2BF9DF21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67CE-86E8-4614-85D1-6EBD33AB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4336-F98D-4CDC-A3BD-7975A90E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CCB3-0104-4E54-9DF0-DE740D15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200A5-73B2-4D14-B6E7-445297E1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3C84-39FD-4394-8364-231FFF3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FA005-E3A8-41AE-A0D3-8B1A447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92ACC-B70F-44EE-A06C-C8F41FC7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A53E2-2ABC-4325-B5A9-975A335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2BB2-801B-4511-9A67-3023A3E2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4A1-05DC-40CC-9464-689441C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4FC6C-1BB3-477B-970D-3501A60D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6BA1-AF3E-41CC-92CE-65BAF2F3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5528-420D-49D8-988C-8BB7305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97B0-7A89-465D-8262-D09D38DF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CC9D-13E4-4759-BCF5-2B1C788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31912-FC46-4B45-B273-564CC3D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3F0D-CCEA-45BA-9BA2-825784F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64094-33AE-477B-A900-B3A8EDB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BAF04-31A9-4F0E-B58E-2B75A377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319A9-F9B5-4F69-83AF-1DA9B211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097-5D29-4E9F-A5A3-92301AF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65787-158F-43C6-B592-C87D1A17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3D41E-D041-48AF-A510-5B960D2B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D6C0-5518-4F48-958B-4795CF8E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6B31F-276F-496A-85CB-45A84AED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60B42-9EC4-458E-B186-A4BC3480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05DC-0C20-4631-9B53-6F7612B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A4EB-79F4-4054-B80E-16FEFAE3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FF5FF-D6F7-4A4F-B2DE-260CE56D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9E717-1485-48D8-A205-D5005FFB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7C670-4143-4BB2-8D6A-62278538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DF3-4743-4539-953A-7DC3322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B3BB-18D0-400E-8A18-8306EB0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4C92-91F8-4B4B-B092-A9F7569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313EE-6327-41D0-8047-AA80BD33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0A9E-2448-4E8C-B90C-FE95877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9FEB-0D81-41C9-A39D-3F02D96F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9D3DB-6E37-47EA-9928-676BB3F0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1EEF-E2D6-48B2-A253-FCC243F0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85369-D4C8-46C9-9035-A1823A1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7781B-A6C5-46B3-B649-EF0E727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649D1-30AE-4952-915F-4C8246B7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202-F9B5-4291-BB43-340D23F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DA31-1082-4DA7-BA7E-44A9A7B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A1C95-CC27-4629-A1AA-67DDF6F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A1CC8-EAED-49E8-A1E8-0B8807E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125C-9A67-484F-BF28-D28FD2B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C1E25-B4BC-4D63-89F8-19894FA1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CAD5-FC24-40D4-9B8B-A2787065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5D353-FE78-453B-9949-948D9909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EED5-38D5-411A-88E4-E156515727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A995-9B29-4D94-9A08-92B70088B0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D216-FD9C-484D-BDAD-1A809FF977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82A9-9B8E-47AC-96E0-151B13FA11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E4E2-22B8-412A-883B-7D2BB3B9C4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B338-F46B-4744-90F6-169EA00557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41C-F12F-4D71-BA2B-1A006E277B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3560-5E9C-404A-86EC-A98F04B5D9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achersfirst.com/index.cfm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teachers.org/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net4classrooms.com/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-learningforkids.org/index.html" TargetMode="External"/><Relationship Id="rId2" Type="http://schemas.openxmlformats.org/officeDocument/2006/relationships/hyperlink" Target="http://www.topmarks.co.uk/" TargetMode="External"/><Relationship Id="rId3" Type="http://schemas.openxmlformats.org/officeDocument/2006/relationships/hyperlink" Target="http://teacher.scholastic.com/activities/clf/tguidesitemap.htm" TargetMode="External"/><Relationship Id="rId4" Type="http://schemas.openxmlformats.org/officeDocument/2006/relationships/hyperlink" Target="http://abcya.com/" TargetMode="External"/><Relationship Id="rId5" Type="http://schemas.openxmlformats.org/officeDocument/2006/relationships/hyperlink" Target="http://www.bbc.co.uk/schools/games/" TargetMode="External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log.4teachers.org/" TargetMode="External"/><Relationship Id="rId2" Type="http://schemas.openxmlformats.org/officeDocument/2006/relationships/hyperlink" Target="http://freetech4teachers.com/" TargetMode="External"/><Relationship Id="rId3" Type="http://schemas.openxmlformats.org/officeDocument/2006/relationships/hyperlink" Target="http://web20classroom.blogspot.com/" TargetMode="External"/><Relationship Id="rId4" Type="http://schemas.openxmlformats.org/officeDocument/2006/relationships/hyperlink" Target="http://web20classroom.blogspot.com/" TargetMode="External"/><Relationship Id="rId5" Type="http://schemas.openxmlformats.org/officeDocument/2006/relationships/hyperlink" Target="http://larryferlazzo.edublogs.org/" TargetMode="External"/><Relationship Id="rId6" Type="http://schemas.openxmlformats.org/officeDocument/2006/relationships/hyperlink" Target="http://ilearntechnology.com/" TargetMode="Externa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techpower.blogspot.com/" TargetMode="External"/><Relationship Id="rId2" Type="http://schemas.openxmlformats.org/officeDocument/2006/relationships/hyperlink" Target="http://educationaltechnologyguy.blogspot.com/" TargetMode="External"/><Relationship Id="rId3" Type="http://schemas.openxmlformats.org/officeDocument/2006/relationships/hyperlink" Target="http://theinnovativeeducator.blogspot.com/" TargetMode="External"/><Relationship Id="rId4" Type="http://schemas.openxmlformats.org/officeDocument/2006/relationships/hyperlink" Target="http://educationstormfront.wordpress.com/" TargetMode="External"/><Relationship Id="rId5" Type="http://schemas.openxmlformats.org/officeDocument/2006/relationships/hyperlink" Target="http://learninglaffs.blogspot.com/" TargetMode="External"/><Relationship Id="rId6" Type="http://schemas.openxmlformats.org/officeDocument/2006/relationships/hyperlink" Target="http://supportblogging.com/Links+to+School+Bloggers" TargetMode="External"/><Relationship Id="rId7" Type="http://schemas.openxmlformats.org/officeDocument/2006/relationships/hyperlink" Target="http://thenerdyteacher.blogspot.com/" TargetMode="External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arpsav.com/blog/" TargetMode="External"/><Relationship Id="rId2" Type="http://schemas.openxmlformats.org/officeDocument/2006/relationships/hyperlink" Target="http://www.whiteboardblog.co.uk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witter4teachers.pbworks.com/Elementary-Teachers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480" y="987480"/>
            <a:ext cx="95216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62120" y="35049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76a55"/>
                </a:solidFill>
                <a:latin typeface="Lucida Sans Unicode"/>
              </a:rPr>
              <a:t>Lakeview Academ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76a55"/>
                </a:solidFill>
                <a:latin typeface="Lucida Sans Unicode"/>
              </a:rPr>
              <a:t>Summer Technology Institut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Teachersfir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2"/>
          <a:stretch/>
        </p:blipFill>
        <p:spPr>
          <a:xfrm>
            <a:off x="195120" y="225360"/>
            <a:ext cx="8498160" cy="1152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rcRect l="19872" t="18718" r="21797" b="6666"/>
          <a:stretch/>
        </p:blipFill>
        <p:spPr>
          <a:xfrm>
            <a:off x="2362320" y="2133720"/>
            <a:ext cx="50101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3"/>
          <a:srcRect l="8333" t="17693" r="22919" b="6666"/>
          <a:stretch/>
        </p:blipFill>
        <p:spPr>
          <a:xfrm>
            <a:off x="2057400" y="1676520"/>
            <a:ext cx="5486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Internet4classro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rcRect l="11058" t="17948" r="12339" b="6921"/>
          <a:stretch/>
        </p:blipFill>
        <p:spPr>
          <a:xfrm>
            <a:off x="1752480" y="1981080"/>
            <a:ext cx="6172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e-learningfork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Topmar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3"/>
              </a:rPr>
              <a:t>Schola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4"/>
              </a:rPr>
              <a:t>Abcy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5"/>
              </a:rPr>
              <a:t>bbc.u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eetech4teacher top 35 ga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gxe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pzles - Photos and video sha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g Huge Lab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p Ten Tools for Young Lear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llwis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 of 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Grade Wallwish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8498160" cy="1506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Melinda.Reinhardt\Local Settings\Temporary Internet Files\Content.IE5\X058U0TE\MC900060336[1].wmf"/>
          <p:cNvPicPr/>
          <p:nvPr/>
        </p:nvPicPr>
        <p:blipFill>
          <a:blip r:embed="rId2"/>
          <a:stretch/>
        </p:blipFill>
        <p:spPr>
          <a:xfrm>
            <a:off x="4343400" y="2286000"/>
            <a:ext cx="36576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bscribe to a Blo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C:\Documents and Settings\Melinda.Reinhardt\Local Settings\Temporary Internet Files\Content.IE5\PFLG1KZP\MC900305397[1].wmf"/>
          <p:cNvPicPr/>
          <p:nvPr/>
        </p:nvPicPr>
        <p:blipFill>
          <a:blip r:embed="rId2"/>
          <a:stretch/>
        </p:blipFill>
        <p:spPr>
          <a:xfrm>
            <a:off x="3657600" y="1905120"/>
            <a:ext cx="17827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blog.4teachers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http://freetech4teacher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3"/>
              </a:rPr>
              <a:t>http://web20classroom.blogspot.com</a:t>
            </a:r>
            <a:r>
              <a:rPr b="0" lang="en-US" sz="800" spc="-1" strike="noStrike" u="sng">
                <a:solidFill>
                  <a:srgbClr val="db5353"/>
                </a:solidFill>
                <a:uFillTx/>
                <a:latin typeface="Lucida Sans Unicode"/>
                <a:hlinkClick r:id="rId4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5"/>
              </a:rPr>
              <a:t>http://larryferlazzo.edublogs.org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6"/>
              </a:rPr>
              <a:t>http://ilearntechnology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7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2280" y="1371600"/>
            <a:ext cx="88394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edtechpower.blogspot.com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http://educationaltechnologyguy.blogspot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3"/>
              </a:rPr>
              <a:t>http://theinnovativeeducator.blogspot.com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4"/>
              </a:rPr>
              <a:t>http://educationstormfront.wordpress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5"/>
              </a:rPr>
              <a:t>http://learninglaffs.blogspot.com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Great Education Hum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6"/>
              </a:rPr>
              <a:t>Links to a ton of education blo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7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8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sharpsav.com/blo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http://www.whiteboardblog.co.uk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Twitter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3"/>
          <a:srcRect l="0" t="17948" r="0" b="6411"/>
          <a:stretch/>
        </p:blipFill>
        <p:spPr>
          <a:xfrm>
            <a:off x="1600200" y="2023920"/>
            <a:ext cx="64008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7:09:32Z</dcterms:created>
  <dc:creator>Fac - Montgomery,Bruce</dc:creator>
  <dc:description/>
  <dc:language>en-US</dc:language>
  <cp:lastModifiedBy>Fac - Montgomery,Bruce</cp:lastModifiedBy>
  <dcterms:modified xsi:type="dcterms:W3CDTF">2010-07-25T22:25:41Z</dcterms:modified>
  <cp:revision>208</cp:revision>
  <dc:subject/>
  <dc:title>Free Online Resources for the Lower School Classroom</dc:title>
</cp:coreProperties>
</file>